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9598"/>
        <c:axId val="25704659"/>
      </c:barChart>
      <c:catAx>
        <c:axId val="7069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4659"/>
        <c:crosses val="autoZero"/>
        <c:auto val="1"/>
        <c:lblAlgn val="ctr"/>
        <c:lblOffset val="100"/>
        <c:noMultiLvlLbl val="0"/>
      </c:catAx>
      <c:valAx>
        <c:axId val="25704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9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299-AC5B-4EF1-9AB9-757CA404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021-3942-4F29-970C-2EBB772A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2F8-1180-496D-AFCA-9A823CD9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AE2-185C-43E3-AC45-77D968AD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EA1-0113-44C0-9967-30C2B4A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6D6-C868-4E47-8AD2-A61A9E86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F8C-CC46-425E-8562-B31901B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AF-8C96-4D25-9E14-C7C1A7B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559-9797-4924-8A21-C4C6F563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F4A-CAF3-44A7-A027-87E3EC15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DB4-3F53-4124-96F8-920E516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7D2-5F79-456D-B814-7155542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B6E8E-99C9-4B6A-8E89-C427A40615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