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31463"/>
        <c:axId val="17927232"/>
      </c:barChart>
      <c:catAx>
        <c:axId val="49831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27232"/>
        <c:crosses val="autoZero"/>
        <c:auto val="1"/>
        <c:lblAlgn val="ctr"/>
        <c:lblOffset val="100"/>
        <c:noMultiLvlLbl val="0"/>
      </c:catAx>
      <c:valAx>
        <c:axId val="17927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31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CD3-9AA8-4142-BCE3-E397FFB1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022-8684-42E7-9A96-052441EF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9D5-3D24-4DB9-9EC3-ED15600D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9E9-D1B5-4B7A-9576-FF9C210D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AC7-5185-4AFD-B25A-DFA12D2B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4D8-9126-4B8B-BEF2-49A422C6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40A-8C75-4DAB-9FEC-89069C3A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027-CC86-4CB5-99D3-36627E73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DDB-B8D4-43E1-A55B-7B0C7286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8C6-1AFA-4D42-8020-02D57991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464-76D1-42CE-9C66-0F7BE32B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2D1-BCA2-4B1C-8017-69ED1E3E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15529-0CA0-455C-98AB-453DB9ECEA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