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886576"/>
        <c:axId val="75912204"/>
      </c:barChart>
      <c:catAx>
        <c:axId val="718865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12204"/>
        <c:crosses val="autoZero"/>
        <c:auto val="1"/>
        <c:lblAlgn val="ctr"/>
        <c:lblOffset val="100"/>
        <c:noMultiLvlLbl val="0"/>
      </c:catAx>
      <c:valAx>
        <c:axId val="759122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865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82B2-9043-4DA3-AC95-AB027784F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92A9-423F-41D9-BFD5-44067650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A943-C0F5-4255-B552-AC39F51E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725A-48A3-4CBA-ABC4-1F850897C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507C-1357-45B7-95DE-8A1FE462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36EF-654F-4445-82EE-3E7E4243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BE5C-5021-4877-B010-70AD9CC0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E840-086D-4296-9ED1-EB7A8335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2825-07EB-48AE-B897-06171C33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B5F2-2700-42C4-B3AA-1E4BCE85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9606-FD07-46AA-A57E-615CC8C1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096A-E4C1-4A86-847C-4B55C650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32D83E-AC26-45BE-922F-F211616077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