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61889"/>
        <c:axId val="92651854"/>
      </c:barChart>
      <c:catAx>
        <c:axId val="6226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51854"/>
        <c:crosses val="autoZero"/>
        <c:auto val="1"/>
        <c:lblAlgn val="ctr"/>
        <c:lblOffset val="100"/>
        <c:noMultiLvlLbl val="0"/>
      </c:catAx>
      <c:valAx>
        <c:axId val="92651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6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120-27A3-4CE9-B8A5-894000A5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7D0-42A9-4D2C-83DA-37363147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5E4-F20B-40E1-A0F2-1C875B35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EE7-083D-4AD8-B902-765B7C5F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71A-7B65-46D4-9D1E-423880F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D7A-EDD6-4A8E-9FC5-6DA0661F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6B6-8211-4C0D-AC70-DC477F1E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BA3-3BEB-4167-9CEF-16D96DEC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040-8A67-4DF9-85ED-C2B6499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163-62CE-4EA7-B39F-17F60B2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B95-4674-4BCB-B5B4-56674765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964-B066-4C26-826F-3AD6CEEB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71057-8066-4DE9-9961-39E0A24F1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