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09870"/>
        <c:axId val="75702075"/>
      </c:barChart>
      <c:catAx>
        <c:axId val="64409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02075"/>
        <c:crosses val="autoZero"/>
        <c:auto val="1"/>
        <c:lblAlgn val="ctr"/>
        <c:lblOffset val="100"/>
        <c:noMultiLvlLbl val="0"/>
      </c:catAx>
      <c:valAx>
        <c:axId val="75702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09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646-5E9F-48F7-8E2F-079ED4FF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466-D870-4FDD-8A1B-C519602D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93D-C584-4F51-8F75-3BAF356A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408-9113-4615-9D21-7925238D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118-67CA-4557-A349-37E87762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F05-43D2-4721-9F12-AA5AB54D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4C3-5C96-46DE-AE99-C2F8B2FF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1DB-365B-4DD0-AB30-86B6BEBE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239-8552-4BDA-8FD0-77EA426B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51F-3DD2-4470-A06C-A90D58B5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C58-7BC5-48B4-BAF5-7AE310E5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C7F-8987-4A58-A463-549631F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3773D-B308-4433-A963-209C154ECA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