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24345"/>
        <c:axId val="63692733"/>
      </c:barChart>
      <c:catAx>
        <c:axId val="90924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2733"/>
        <c:crosses val="autoZero"/>
        <c:auto val="1"/>
        <c:lblAlgn val="ctr"/>
        <c:lblOffset val="100"/>
        <c:noMultiLvlLbl val="0"/>
      </c:catAx>
      <c:valAx>
        <c:axId val="63692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4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660-68D8-4B81-8D91-D880E584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CF3-3094-4EC3-8EC9-8F01AE6F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9CB-C963-413B-9BF2-6E29C37A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17E-0094-43D9-B9C5-A6C9687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ECD-5F27-4D48-9BCA-8C083C2E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2C2-6145-4802-B2E2-5A8404E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7D5-D8DE-434D-A641-8240DE3E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299-D712-45C9-ABD3-0715DFF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EA2-ABDC-45BE-B3A6-1D87653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541-9D98-4A3D-873B-1A0C7B0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6DD-2ECA-4990-AF9D-2A9CCE6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8A6-95AC-4477-AFEE-B521A1B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17FC-9076-479B-81E0-44AB0DDB98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