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0079D7-57DC-48AD-9543-274897E2582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1E6E0-CF90-45D4-A412-82F9A3E0A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63F4C-08BE-4890-96BE-964DCA2B697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E749A-A6CD-4A6D-B19A-AC55F903C4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1F490-247C-4FE4-9F6A-9ECF6E427E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03B4A0-6EE8-4F7F-A4C3-9818296413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205D8-507A-44A2-ADEA-5A158E98B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3F9DB-7DDA-4AFA-856A-8E64873A72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C57375-71D1-414F-A72B-A9EFB920CC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6D7566-1426-423B-9BBC-178EB0391D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98187-A4D7-42B7-A4C3-486C81E33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2C0F3-AD69-4577-966B-41334168BC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086B50-C454-432B-A0B6-A443B211E18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ntral cctbx typ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1028880" y="4267080"/>
            <a:ext cx="35049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special_position_setting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714680" y="5791320"/>
            <a:ext cx="21333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xray.structur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5295960" y="4267080"/>
            <a:ext cx="160020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set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143680" y="5791320"/>
            <a:ext cx="1904760" cy="457200"/>
          </a:xfrm>
          <a:prstGeom prst="rect">
            <a:avLst/>
          </a:prstGeom>
          <a:solidFill>
            <a:srgbClr val="3333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00"/>
                </a:solidFill>
                <a:latin typeface="Courier New"/>
              </a:rPr>
              <a:t>miller.array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"/>
          <p:cNvGrpSpPr/>
          <p:nvPr/>
        </p:nvGrpSpPr>
        <p:grpSpPr>
          <a:xfrm>
            <a:off x="2490480" y="1447920"/>
            <a:ext cx="3033720" cy="1738080"/>
            <a:chOff x="2490480" y="1447920"/>
            <a:chExt cx="3033720" cy="1738080"/>
          </a:xfrm>
        </p:grpSpPr>
        <p:sp>
          <p:nvSpPr>
            <p:cNvPr id="47" name=""/>
            <p:cNvSpPr/>
            <p:nvPr/>
          </p:nvSpPr>
          <p:spPr>
            <a:xfrm>
              <a:off x="3009600" y="1447920"/>
              <a:ext cx="152388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unit_cell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3009600" y="2000520"/>
              <a:ext cx="236232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space_group_info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000240" y="2648160"/>
              <a:ext cx="2361960" cy="457200"/>
            </a:xfrm>
            <a:prstGeom prst="rect">
              <a:avLst/>
            </a:prstGeom>
            <a:solidFill>
              <a:srgbClr val="3333cc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00"/>
                  </a:solidFill>
                  <a:latin typeface="Courier New"/>
                </a:rPr>
                <a:t>crystal.symmetry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2490480" y="19242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+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2506320" y="2543400"/>
              <a:ext cx="44136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600" spc="-1" strike="noStrike">
                  <a:solidFill>
                    <a:srgbClr val="000000"/>
                  </a:solidFill>
                  <a:latin typeface="Times New Roman"/>
                </a:rPr>
                <a:t>=</a:t>
              </a:r>
              <a:endParaRPr b="0" lang="en-US" sz="3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2552400" y="2543400"/>
              <a:ext cx="29718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53" name=""/>
          <p:cNvSpPr/>
          <p:nvPr/>
        </p:nvSpPr>
        <p:spPr>
          <a:xfrm>
            <a:off x="266760" y="3533760"/>
            <a:ext cx="220968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Courier New"/>
              </a:rPr>
              <a:t>min_distance_sym_equi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" name=""/>
          <p:cNvCxnSpPr>
            <a:stCxn id="44" idx="0"/>
            <a:endCxn id="49" idx="2"/>
          </p:cNvCxnSpPr>
          <p:nvPr/>
        </p:nvCxnSpPr>
        <p:spPr>
          <a:xfrm flipV="1" rot="16200000">
            <a:off x="4557600" y="2728440"/>
            <a:ext cx="1162080" cy="191520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5" name=""/>
          <p:cNvCxnSpPr>
            <a:stCxn id="42" idx="0"/>
            <a:endCxn id="49" idx="2"/>
          </p:cNvCxnSpPr>
          <p:nvPr/>
        </p:nvCxnSpPr>
        <p:spPr>
          <a:xfrm flipH="1" flipV="1" rot="5400000">
            <a:off x="2900160" y="2986200"/>
            <a:ext cx="1162080" cy="1400040"/>
          </a:xfrm>
          <a:prstGeom prst="bentConnector3">
            <a:avLst>
              <a:gd name="adj1" fmla="val 49984"/>
            </a:avLst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6" name=""/>
          <p:cNvCxnSpPr>
            <a:stCxn id="43" idx="0"/>
            <a:endCxn id="42" idx="2"/>
          </p:cNvCxnSpPr>
          <p:nvPr/>
        </p:nvCxnSpPr>
        <p:spPr>
          <a:xfrm flipV="1">
            <a:off x="278136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7" name=""/>
          <p:cNvCxnSpPr>
            <a:stCxn id="45" idx="0"/>
            <a:endCxn id="44" idx="2"/>
          </p:cNvCxnSpPr>
          <p:nvPr/>
        </p:nvCxnSpPr>
        <p:spPr>
          <a:xfrm flipV="1">
            <a:off x="6095880" y="4724280"/>
            <a:ext cx="360" cy="1067400"/>
          </a:xfrm>
          <a:prstGeom prst="straightConnector1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</p:cxnSp>
      <p:grpSp>
        <p:nvGrpSpPr>
          <p:cNvPr id="58" name=""/>
          <p:cNvGrpSpPr/>
          <p:nvPr/>
        </p:nvGrpSpPr>
        <p:grpSpPr>
          <a:xfrm>
            <a:off x="228600" y="5029200"/>
            <a:ext cx="2171520" cy="304920"/>
            <a:chOff x="228600" y="5029200"/>
            <a:chExt cx="2171520" cy="304920"/>
          </a:xfrm>
        </p:grpSpPr>
        <p:sp>
          <p:nvSpPr>
            <p:cNvPr id="59" name=""/>
            <p:cNvSpPr/>
            <p:nvPr/>
          </p:nvSpPr>
          <p:spPr>
            <a:xfrm>
              <a:off x="228600" y="5029200"/>
              <a:ext cx="79992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028520" y="5029200"/>
              <a:ext cx="1371600" cy="304920"/>
            </a:xfrm>
            <a:prstGeom prst="rect">
              <a:avLst/>
            </a:prstGeom>
            <a:solidFill>
              <a:srgbClr val="3333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ffff00"/>
                  </a:solidFill>
                  <a:latin typeface="Courier New"/>
                </a:rPr>
                <a:t>xray.scatterer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61" name=""/>
          <p:cNvGrpSpPr/>
          <p:nvPr/>
        </p:nvGrpSpPr>
        <p:grpSpPr>
          <a:xfrm>
            <a:off x="6286680" y="3247920"/>
            <a:ext cx="2057400" cy="581040"/>
            <a:chOff x="6286680" y="3247920"/>
            <a:chExt cx="2057400" cy="581040"/>
          </a:xfrm>
        </p:grpSpPr>
        <p:grpSp>
          <p:nvGrpSpPr>
            <p:cNvPr id="62" name=""/>
            <p:cNvGrpSpPr/>
            <p:nvPr/>
          </p:nvGrpSpPr>
          <p:grpSpPr>
            <a:xfrm>
              <a:off x="6286680" y="3247920"/>
              <a:ext cx="2057400" cy="304920"/>
              <a:chOff x="6286680" y="3247920"/>
              <a:chExt cx="2057400" cy="304920"/>
            </a:xfrm>
          </p:grpSpPr>
          <p:sp>
            <p:nvSpPr>
              <p:cNvPr id="63" name=""/>
              <p:cNvSpPr/>
              <p:nvPr/>
            </p:nvSpPr>
            <p:spPr>
              <a:xfrm>
                <a:off x="6286680" y="3247920"/>
                <a:ext cx="205740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000000"/>
                    </a:solidFill>
                    <a:latin typeface="Courier New"/>
                  </a:rPr>
                  <a:t>array of </a:t>
                </a:r>
                <a:r>
                  <a:rPr b="1" lang="en-US" sz="1200" spc="-1" strike="noStrike">
                    <a:solidFill>
                      <a:srgbClr val="ffffff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7125120" y="3247920"/>
                <a:ext cx="1218960" cy="304920"/>
              </a:xfrm>
              <a:prstGeom prst="rect">
                <a:avLst/>
              </a:prstGeom>
              <a:solidFill>
                <a:srgbClr val="3333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en-US" sz="1200" spc="-1" strike="noStrike">
                    <a:solidFill>
                      <a:srgbClr val="ffff00"/>
                    </a:solidFill>
                    <a:latin typeface="Courier New"/>
                  </a:rPr>
                  <a:t>miller.index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65" name=""/>
            <p:cNvSpPr/>
            <p:nvPr/>
          </p:nvSpPr>
          <p:spPr>
            <a:xfrm>
              <a:off x="6305760" y="3524400"/>
              <a:ext cx="1371600" cy="304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nomalous_flag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6" name=""/>
          <p:cNvSpPr/>
          <p:nvPr/>
        </p:nvSpPr>
        <p:spPr>
          <a:xfrm>
            <a:off x="1411200" y="23922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4287960" y="312408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87820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183360" y="4800600"/>
            <a:ext cx="901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inheritan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 flipH="1">
            <a:off x="62103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 flipH="1">
            <a:off x="62103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2219760" y="380988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219760" y="5334120"/>
            <a:ext cx="456480" cy="91404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noFill/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1683000" y="384012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1716120" y="536400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235920" y="536256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235920" y="3809880"/>
            <a:ext cx="944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200" spc="-1" strike="noStrike">
                <a:solidFill>
                  <a:srgbClr val="000000"/>
                </a:solidFill>
                <a:latin typeface="Times New Roman"/>
              </a:rPr>
              <a:t>compos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8" name=""/>
          <p:cNvGrpSpPr/>
          <p:nvPr/>
        </p:nvGrpSpPr>
        <p:grpSpPr>
          <a:xfrm>
            <a:off x="6315120" y="4819680"/>
            <a:ext cx="2638440" cy="704880"/>
            <a:chOff x="6315120" y="4819680"/>
            <a:chExt cx="2638440" cy="704880"/>
          </a:xfrm>
        </p:grpSpPr>
        <p:sp>
          <p:nvSpPr>
            <p:cNvPr id="79" name=""/>
            <p:cNvSpPr/>
            <p:nvPr/>
          </p:nvSpPr>
          <p:spPr>
            <a:xfrm>
              <a:off x="6315120" y="5029200"/>
              <a:ext cx="800280" cy="3049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array o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7115400" y="5029200"/>
              <a:ext cx="466560" cy="304920"/>
            </a:xfrm>
            <a:prstGeom prst="rect">
              <a:avLst/>
            </a:prstGeom>
            <a:solidFill>
              <a:srgbClr val="ff00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0000"/>
                  </a:solidFill>
                  <a:latin typeface="Courier New"/>
                </a:rPr>
                <a:t>da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7604280" y="4819680"/>
              <a:ext cx="1349280" cy="702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bool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int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complex_double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800" spc="-1" strike="noStrike">
                  <a:solidFill>
                    <a:srgbClr val="000000"/>
                  </a:solidFill>
                  <a:latin typeface="Courier New"/>
                </a:rPr>
                <a:t>hendrickson_lattman</a:t>
              </a:r>
              <a:endParaRPr b="0" lang="en-US" sz="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7610400" y="4838760"/>
              <a:ext cx="76320" cy="685800"/>
            </a:xfrm>
            <a:custGeom>
              <a:avLst/>
              <a:gdLst>
                <a:gd name="textAreaLeft" fmla="*/ 48960 w 76320"/>
                <a:gd name="textAreaRight" fmla="*/ 76320 w 76320"/>
                <a:gd name="textAreaTop" fmla="*/ 17640 h 685800"/>
                <a:gd name="textAreaBottom" fmla="*/ 668160 h 685800"/>
              </a:gdLst>
              <a:ahLst/>
              <a:rect l="textAreaLeft" t="textAreaTop" r="textAreaRight" b="textAreaBottom"/>
              <a:pathLst>
                <a:path w="21600" h="21600">
                  <a:moveTo>
                    <a:pt x="21600" y="0"/>
                  </a:moveTo>
                  <a:cubicBezTo>
                    <a:pt x="162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5400" y="10800"/>
                    <a:pt x="0" y="10800"/>
                  </a:cubicBezTo>
                  <a:cubicBezTo>
                    <a:pt x="54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16200" y="21600"/>
                    <a:pt x="21600" y="21600"/>
                  </a:cubicBezTo>
                </a:path>
              </a:pathLst>
            </a:custGeom>
            <a:noFill/>
            <a:ln w="190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2-06T03:47:56Z</dcterms:created>
  <dc:creator>CCI</dc:creator>
  <dc:description/>
  <dc:language>en-US</dc:language>
  <cp:lastModifiedBy>CCI</cp:lastModifiedBy>
  <dcterms:modified xsi:type="dcterms:W3CDTF">2005-02-06T16:43:26Z</dcterms:modified>
  <cp:revision>4</cp:revision>
  <dc:subject/>
  <dc:title>PowerPoint Presentation</dc:title>
</cp:coreProperties>
</file>